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F537-C6D6-426C-AA43-BE76AB9E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634B-35DA-489A-AAE9-3ADDDD0D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1A04-746E-4ED4-A80F-531826CD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8B57-29B6-420D-85D6-8CAE50F49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64C5-C6E4-4D78-889F-2C34AAC5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A54A-B4E7-437C-959C-9E341054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1A78-4774-4D44-BEE7-AF16139D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7BE4-0E99-40E2-BB5C-83BBA5C5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AC96-264A-4638-A442-86D1E478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C104-D9D5-4D68-B8A9-4B73D675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B23E-57A9-40A7-A8E0-8CC9E610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6FBB-C27B-455F-A9EA-F07A416E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AF11-ED25-4AEF-B319-CE55C5574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Me llamo ____________ Clase 8IM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La fecha es el 10 de mayo del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960" y="1066320"/>
            <a:ext cx="8915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0000"/>
                </a:solidFill>
                <a:latin typeface="Arial"/>
              </a:rPr>
              <a:t>Propósito # 61: 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¿Cómo repasamos para el examen?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Copy &amp; answer the questions about the readings in this chapt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¿A que hora cenan en Españ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¿Que comen en España para el desayuno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¿Que es el gallopinto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¿Que es una tortilla español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¿ Cuál es otra palabra para “Tapas”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-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Cierto o Fals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; Copy &amp; correct the false statements by replacing the words in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bold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f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Nicaragu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omen churros para el desayu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 gallopint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es huevos con papas y cebo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a tortilla a la española y una tortilla mexicana son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uy diferent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los países latinoamericanos cenan a las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och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de la noc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tunos van al mesón para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mer tap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- Copy and complete with the correct form of the ver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u_________ muchos correos electrónicos.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recib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_________ mucho en la escuela.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apren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sotros __________ mucha leche.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be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los ________ la televisión.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Dónde __________ Uds.?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 (viv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Él ________ el menú en español.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le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I- Copy and complete with the appropriate words/lett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é no vas a ir al caf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(yo) no ________ a ________ al café porque ________ de com____ y no tengo ham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é tienen ustedes que estudi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(nosotros) ________ que estudi___ porque mañana _________ a ten___ un exa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- Copy and do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something you are not going to do because you just di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ll you can abou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 caf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something your friends are going to do because they have 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- Copy &amp; complete with the correct verb e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ú vend_____ ropa y yo vend____ lib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sotros aprend________ español y Ustedes aprend________ franc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Él escrib_____ mucho en la clase de ing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no le___ porque no me gu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los asist______ a una escuela secunda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¡Usted com____ mucha carne roj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ú beb____ una co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 viv____ en Estados Un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9:29:43Z</dcterms:created>
  <dc:creator>Helen Zumaeta</dc:creator>
  <dc:description/>
  <dc:language>en-US</dc:language>
  <cp:lastModifiedBy>Helen Zumaeta</cp:lastModifiedBy>
  <dcterms:modified xsi:type="dcterms:W3CDTF">2011-05-10T18:18:19Z</dcterms:modified>
  <cp:revision>6</cp:revision>
  <dc:subject/>
  <dc:title>Me llamo _________ Clase 8IM La fecha es el 10 de mayo del 2011</dc:title>
</cp:coreProperties>
</file>